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4063-F459-48DE-9A9C-843CC89593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3606-9DFF-4B32-9888-8AC3BAE54E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76D-441B-4221-BDA4-94F9A2FB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A0C-0D24-4F25-9E7D-877C2B8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51E2D-9D52-466E-BB31-B71F2F1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E46E3-1A96-41C2-9634-7445D59E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06998-95E3-489E-AC67-4D272B46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D749F-74E2-4F05-A123-B068F928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6B5F6-ED92-48E1-B825-78AB9C8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17668-5253-4C61-9F7E-6356B9C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30C2F-3D0B-4FA9-92D5-E9021EB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601F-7C05-4B32-9336-76C44BCB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57266-EE6B-4273-8F29-8F2747A6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786F1-2D9D-463F-BAB1-EE42781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A36-0AF1-484C-8D80-4C2B5C3B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A5D1B-14AE-4CF2-B049-13D9EDE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C3DB-AD48-46B7-9760-709976A5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EE955-4A2D-498D-8147-E485FCA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ED841-61D4-4FFC-B620-3BC7851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C477-58A2-4B12-AAEE-37193B5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72CE-DB7D-4771-890B-EF71329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01603-450F-4724-BB32-1CD4BA7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2974B-3F63-4B72-9A77-3FD2837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5298-A9E2-42D3-AA01-A48BB90E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4A2E7-1880-455C-A995-8AA557B1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83A-FB63-48B9-9184-61CD5157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9C90B-DC8E-47AE-9102-B611DD61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458F8-1771-46B7-B276-CE6E7B1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B8F3-2C92-4711-A5FE-7A13AAC0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F82DD-E49C-4D04-BFBF-9C4C015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5F4F3-BCF1-42E9-A5AB-EF62B9D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2581-10F1-4320-B4BE-10B7E7B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A618C-5AC4-4432-A110-43D38413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F218-2A06-4945-A354-B27BB2D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D4BA6-4132-4F8B-9D71-303BF90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C2EB-9FC5-40CC-A88B-7E802AB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05E-C487-4F58-86C1-DC965BB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7052B-CCE2-43B0-B34B-61D5CEE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BCB0-8784-4791-8C00-2516589D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93085-187E-4139-AD74-871D6B38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AEB4B-AC68-45CD-B337-5915EDE7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62B73-56DA-4F5A-A989-60625EB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7ED69-92F8-41B0-95A1-D6F8A2B9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F6F8E-A5FD-4893-BC7D-C8584AEE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F072B-C4D4-4DA9-9FBD-0CF37274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D6C9D-4CD3-4299-BE94-FB95DD4A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E073C-2E90-4A45-9FA3-DA26FF37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EBB3-91D8-40A3-A430-BF00889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8F0B3-018F-4B4B-AF52-10F34A8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67E41-3A4E-464E-A9C0-ED987AA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B6249-2D07-47F3-84C0-1314F0D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95CA-0014-498F-9E8F-26D48134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B22B5-CA3B-47CD-83E6-6D34AE05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397-982E-454A-8F87-F4E9080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08F-5709-4E5F-9C8C-EA4C05F9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01B5-461F-4AE9-B3FB-866291E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230-38AD-4671-BFE4-CA75E2D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790-7B14-4E81-8D1F-8B697C8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C8B-D57F-4325-B926-12CC7B5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EAF2-B342-4669-9E70-0CD6583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178-D174-4AB9-AC12-FBFCCF7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870E-7BF8-4654-9ADE-B194DEF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E30-5D69-4C85-B951-84B848E9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AB6E-EC97-4577-BAE8-A25CFA75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8440-B048-42F6-9D6A-8D29CC8D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8DF8-3504-440D-A26B-61472FB6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6D13-B881-4259-8B9E-C5A9707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39A9-1AC4-498F-8679-C676435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A2E1-B031-4E8D-97F4-3B78FAF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203-E624-47C9-8A97-6082DE3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2AAA-0128-412A-B185-293EBFF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63A1-FEDE-4B2A-9F92-D81B50E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C27C-8129-454A-8EA3-5A14354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8699-0421-4E78-A0EC-9AFAF1F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5DA7F-D411-4625-B013-E287417C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4F35-7F49-47CC-B9AC-2B56D7CC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03CE-34A6-4A4A-9556-C5BC90DD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43C7-35D7-47EA-8E5E-ECDF88A0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066D-F58E-4100-A45C-E9C0207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BEF7-495D-4850-A19F-AC5CFAE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1C5-D516-4995-AA96-CB378B6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77B2-F532-4914-B183-7AEC3B96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F745-136F-4E34-84D2-FF58A92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12C8-4295-4D4D-B77B-F53069C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7172-76E4-49F6-B652-78838858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9346-4E9E-4613-B6A5-7F09836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E6332-8DCC-47E2-B161-45ACF4C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6075-52FB-4566-BF56-839FC7F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2ED3-C516-4767-870C-89935D75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AE67-F10D-4178-88F0-A380C41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2053-526D-4FDC-86FE-97A1A966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7AA-EF6F-4460-A704-3767DEF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6ED6-BD86-4B43-B235-754CBD1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0770-838F-41D9-95D5-EB9379A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5517-CF6A-4473-AD78-3E74B0A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9DF1-99E4-4218-A3C2-7D1E4F4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8081-058F-4675-BF4B-40A4AAC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4003-1CE5-40C0-BA1E-0273410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5CA6-BCF6-48EE-A0AE-ABBAE4DA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B168-CB86-4F01-AA38-8BC48EB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F2C9-9C85-4E7E-9C83-AE79D6FE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D883F-FFC9-4EAB-BA6B-70AEA62D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DDC-67F9-40C0-9B00-AB154055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7CDF-C181-435B-A66F-B160577F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60D4-D9E2-4DF9-867C-25F59A3F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BF00-8A71-41F0-BDE9-94C6959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51A2-8B95-40AC-9A23-EC234A1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FBB9-D6F8-4ECE-8370-04727730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4946-7E0F-487F-A7A2-8C59097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FB2F-33B6-4440-9CFA-EAC5751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DEA6-8E6F-4D98-97D8-6D316D6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72D4-9B4C-4AE2-AF1C-54BF7A7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363B-A894-434D-A5F2-10169A1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B4-2FF9-4E9A-BB2A-B740D1B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761E-64CE-4DDC-A7DF-637ADB5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6F01-CAE8-468E-8532-60A1FA18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B4DB-004C-4E44-8DCC-97589374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5595-D799-46C1-9BD6-A331290C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CF4AD-D188-4FD0-A56E-F33A433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13770-FCD9-4456-8C67-4A74C9F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D1C6-D975-4D38-9656-324A590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28EF5-1C66-44BE-AE5D-C7410A6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4DD5-3215-4B1D-9C04-2889B621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8CE3-1136-4F32-8073-9A4382A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965-229B-4AF3-A6C5-A8013CB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69EB-1F29-4239-AF68-0716C9A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E1F4-E553-48CA-B573-F56410E9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F781-216C-44CC-9043-6487796C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0EEC-E65F-46B6-9E01-468D2448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5BB7-CF1D-4669-80CF-51B90C3A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1171E-6364-4D14-9E4C-AD32D3DA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DEDE-DA2C-40F3-A1EE-1335CDE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F372D-9279-41C2-9AE1-734A8E86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9A86-8C9B-4412-BC42-962C93B4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9275-1085-48F1-ABB0-41CFB597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A87-FB3C-463E-B4B7-A861263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861D-747B-4125-A187-18F2753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4AAD-6919-42C8-BB5E-53437A6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0314-00F0-4A52-A45F-C9FFE5C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7B6B3-A877-4AE8-94C6-C1667AD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D1FF-FB1F-40DA-B214-3EA2FEE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F48A-6F8F-4ACF-ACC0-CEF025E4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FF34-BD44-4F90-8A8C-C3DD2CC8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B5ED-BDD4-47E8-8100-47129115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72B7-36C6-4EE8-9512-8E5A2BAB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5A9B5-C5AC-4FC8-9F70-39123A8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3ACB-783C-42B3-888C-B387CC11C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FE1-813F-4EA8-9BE5-76E298B94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746-773F-4A16-B467-601D3B6EB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FFB-4A96-448D-A9E1-5A9B1DA90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A92-BD25-42C7-AC6C-0336188D30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813E-7D25-45BF-A6FB-C61E3BE52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D96-31FD-48FF-92E8-40F0E8F31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375B-1738-4A3C-9CCE-933C4BF73A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B372-CAF3-4D44-9866-E80780969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82F1-32FB-43FE-B093-ABFFC5A764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41F2-512C-4C7C-8240-261175A79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изяева В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C2F-5899-4788-9C1A-AF425BD44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ОЕ ВРЕМЯ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ОВЫЕ ПРОФЕСС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5" descr="BD07153_"/>
          <p:cNvPicPr/>
          <p:nvPr/>
        </p:nvPicPr>
        <p:blipFill>
          <a:blip r:embed="rId1"/>
          <a:stretch/>
        </p:blipFill>
        <p:spPr>
          <a:xfrm>
            <a:off x="7162920" y="2590920"/>
            <a:ext cx="1646280" cy="1801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BD06675_"/>
          <p:cNvPicPr/>
          <p:nvPr/>
        </p:nvPicPr>
        <p:blipFill>
          <a:blip r:embed="rId2"/>
          <a:stretch/>
        </p:blipFill>
        <p:spPr>
          <a:xfrm>
            <a:off x="285840" y="4214880"/>
            <a:ext cx="1455480" cy="1800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PE01846_"/>
          <p:cNvPicPr/>
          <p:nvPr/>
        </p:nvPicPr>
        <p:blipFill>
          <a:blip r:embed="rId3"/>
          <a:stretch/>
        </p:blipFill>
        <p:spPr>
          <a:xfrm>
            <a:off x="5292720" y="189000"/>
            <a:ext cx="3693960" cy="1484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BD06517_"/>
          <p:cNvPicPr/>
          <p:nvPr/>
        </p:nvPicPr>
        <p:blipFill>
          <a:blip r:embed="rId4"/>
          <a:stretch/>
        </p:blipFill>
        <p:spPr>
          <a:xfrm>
            <a:off x="285840" y="714240"/>
            <a:ext cx="1803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требованн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еджеры по продаж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хгалтеры и инжен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в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валифицированные рабоч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рговые представители и вод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альны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крета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 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р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представ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9" descr="j0303355"/>
          <p:cNvPicPr/>
          <p:nvPr/>
        </p:nvPicPr>
        <p:blipFill>
          <a:blip r:embed="rId1"/>
          <a:stretch/>
        </p:blipFill>
        <p:spPr>
          <a:xfrm>
            <a:off x="6072120" y="3571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1" descr="BS00508_"/>
          <p:cNvPicPr/>
          <p:nvPr/>
        </p:nvPicPr>
        <p:blipFill>
          <a:blip r:embed="rId2"/>
          <a:stretch/>
        </p:blipFill>
        <p:spPr>
          <a:xfrm>
            <a:off x="5357880" y="164304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ближайшем будущ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0" descr="j0283649"/>
          <p:cNvPicPr/>
          <p:nvPr/>
        </p:nvPicPr>
        <p:blipFill>
          <a:blip r:embed="rId1"/>
          <a:stretch/>
        </p:blipFill>
        <p:spPr>
          <a:xfrm>
            <a:off x="7929720" y="857160"/>
            <a:ext cx="657000" cy="90504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"/>
          <p:cNvSpPr/>
          <p:nvPr/>
        </p:nvSpPr>
        <p:spPr>
          <a:xfrm>
            <a:off x="785880" y="1714680"/>
            <a:ext cx="700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Инженерные специа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IT и разработчики компьютерного аппаратного обеспе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Нанотехнолог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пециальности на стыке электроники и биотехнолог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Маркетинг и прода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пециальности, связанные с серви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Логи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Эколог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Медицинские специальности, связанные с поиском средств продления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Хим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айер (менеджер по закупке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остоков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Имиджмейк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диаплан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одельер (дизайнер одежд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анотехн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лиграф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Food-sty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ренд-менедж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риэй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ерчендайз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дкие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64268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Актуарий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страхованию, занимающийся разработкой научно обоснованных методов исчисления тарифных ставок по долгосрочному страхованию жи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Гринкип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дословно с английского языка название данной профессии можно перевести как «хранитель зелени». Основная задача гринкипера – поддержание спортивных газонов для игры в футбол, регби, бейсбол и т.п. в должном состоя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юх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едкая профессия в сфере парфюмерии. Его главной задачей является оценка запаха и составление парфюмерных композиц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еривател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, который управляет станком, наносящим серу на спички на заводах по производству спи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астиж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пециалист по изготовлению из натуральных волос и искусственных волокон париков, усов, бород и бакенбар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ит-бос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руководитель среднего звена в казино. Обязанности самые широкие и прежде всего контроль за всем, что происходит в игровом зал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омель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он знает все о винах и церемонии винопития: как правильно открыть бутылку, налить, подать к нужному блюду и что сказать при эт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рингер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татного корреспондента, который работает, как правило, в экстремальных условиях: это и зоны военных действий, и стихийных бедствий, и массовых беспоряд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аксидерм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чучель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итестер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дегустатор чая, оценивает по 50-60 образцов в день. Оценки идут по внешнему виду, вкусу, цвету листьев, аромату завар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орседо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рутильщик сиг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рамбовщ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рофессия, которая недавно появилась в метро на самых людных станциях. Главная обязанность такого человека – помогать людям пролезть в переполненный вагон с целью обеспечения своевременного отправления поез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Фумель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ист по сигарам и спиртным напиткам. Главная задача представителя этой редкой профессии – подобрать для клиента сочетание сигары и спиртного напитка, учитывая при этом индивидуальные особенности каждого кли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46:49Z</dcterms:created>
  <dc:creator>Валентина</dc:creator>
  <dc:description/>
  <dc:language>en-US</dc:language>
  <cp:lastModifiedBy>ирина</cp:lastModifiedBy>
  <dcterms:modified xsi:type="dcterms:W3CDTF">2010-11-12T05:52:12Z</dcterms:modified>
  <cp:revision>72</cp:revision>
  <dc:subject/>
  <dc:title>Презентация PowerPoint</dc:title>
</cp:coreProperties>
</file>